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4F3AB-5B68-4FDC-ACF6-75EE19A4E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EF66B-B152-4036-AF8A-FCAF66A76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0D8D5-D8DF-4800-87B2-F91F033B4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ACD2C-2A7F-4917-A180-977A241C0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5BB82C-23DB-4F55-B3EA-8F4FC4ED51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20BE6-1251-4ED1-911C-F1F0C86CB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5EED9-607D-4C04-9E42-423129C3F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2A447-5432-4F21-8056-8B1987B6D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B7E1A-5FC5-4F23-88E4-577284C7C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61A68-E22F-48B1-9AF0-8F9E54712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99DCB-893E-4FB2-918F-CCF8814A9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2A29E-5C9C-440E-988E-03CB4EEA9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0A5D5-EBB4-4003-BDEF-936D8455E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F4B81-AD2F-4D06-AA06-B13851488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F70B16-EAEF-423F-9C4F-3460A30C5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84ABC5-C5D3-433E-9118-A6701B5069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2D588F-B5D7-4E13-8670-4CBABAFF03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A9A1B-2EC7-4046-B875-D3F4C31CB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8339D-51A9-4060-8CF3-F48FC0D8E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1AF1E-A526-47DC-9396-1556A17B0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75C5D-583A-4FC6-84FB-72F58FD76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EFF36-0F0C-4018-87DC-0508CD03F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1976A-3BDD-4902-B2D0-6EBD2D434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3B4BE-1564-49E0-B403-D3C26FE73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428C7-B9C4-479F-A2DB-B21C50EB7C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6EBA9-4C38-4ACE-8F2C-A7BAB7DFC9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All you’ve ever wanted to know about university life</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 third-year student’s perspec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pproaches</a:t>
            </a:r>
            <a:endParaRPr b="0" lang="en-US" sz="4200" spc="-1" strike="noStrike">
              <a:solidFill>
                <a:srgbClr val="ffffff"/>
              </a:solidFill>
              <a:latin typeface="Arial"/>
            </a:endParaRPr>
          </a:p>
        </p:txBody>
      </p:sp>
      <p:sp>
        <p:nvSpPr>
          <p:cNvPr id="11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 high school knowledge and notes (don’t throw either away!)</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s (Taking notes vs. doing problem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ization, doing problems, applying concepts, drawing diagrams and flowcharts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ep processing vs. Shallow processing</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ing exercises &gt; Taking notes &gt; highlighting &gt; reading &gt; skimm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idterm and Exam Preparation</a:t>
            </a:r>
            <a:endParaRPr b="0" lang="en-US" sz="4200" spc="-1" strike="noStrike">
              <a:solidFill>
                <a:srgbClr val="ffffff"/>
              </a:solidFill>
              <a:latin typeface="Arial"/>
            </a:endParaRPr>
          </a:p>
        </p:txBody>
      </p:sp>
      <p:sp>
        <p:nvSpPr>
          <p:cNvPr id="1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d based on performance, not on effort</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out as much as possible from lectures (Prof.) and from T.A. (format, length, content)</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ing: Midterms (15-30%) Final (30-50%)</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over lectures notes, extra comments, pass exams (what to focus on/emphasized)</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format (MC, short answer, questions similar to lectures and HW, mostly memorizatio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terms (1-2 hours), Exams (3 hou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idterm and Exam Preparation</a:t>
            </a: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at least 4 days to a week)</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oritize and prepare for unexpected circumstance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l curve?</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carefully, marks allotted</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ank out tactics</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to the point (point form for short answer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udgeting</a:t>
            </a:r>
            <a:endParaRPr b="0" lang="en-US" sz="4200" spc="-1" strike="noStrike">
              <a:solidFill>
                <a:srgbClr val="ffffff"/>
              </a:solidFill>
              <a:latin typeface="Arial"/>
            </a:endParaRPr>
          </a:p>
        </p:txBody>
      </p:sp>
      <p:sp>
        <p:nvSpPr>
          <p:cNvPr id="11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hand textbooks may come with past midterms, notes, assignment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for OSAP early so funding will arrive by the first day of clas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sary and scholarship</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using, meal plans, transportatio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tudy positions (OS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Q and A session</a:t>
            </a: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your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 for listening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genda</a:t>
            </a: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ing Styles and Class Forma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Note taking and Studying</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dterm and Final Exam Preparatio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dgeting</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and A s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isclaimer</a:t>
            </a:r>
            <a:endParaRPr b="0" lang="en-US" sz="42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the tips and strategies that I discuss in this tutorial are according to my own experience and from my point of view.  Things are subject to change depending to your own background, circumstances and the university that you are going 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High school Class vs. University Lecture</a:t>
            </a:r>
            <a:endParaRPr b="0" lang="en-US" sz="34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r class size (100 to &gt;500)</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o room size to size of Imperial Oil Auditorium</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responsible for your own educatio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your own schedule and choose your class ti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eaching Style</a:t>
            </a:r>
            <a:endParaRPr b="0" lang="en-US" sz="4200" spc="-1" strike="noStrike">
              <a:solidFill>
                <a:srgbClr val="ffffff"/>
              </a:solidFill>
              <a:latin typeface="Arial"/>
            </a:endParaRPr>
          </a:p>
        </p:txBody>
      </p:sp>
      <p:sp>
        <p:nvSpPr>
          <p:cNvPr id="10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cture-style, could be onlin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Paced</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interaction, clicker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tle or no repetition on conten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d knowled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upport groups</a:t>
            </a: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 Centre (Writing/Math Aid et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torial group</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 office hour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sh group</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dence group</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torship progra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ing Prepared</a:t>
            </a:r>
            <a:endParaRPr b="0" lang="en-US" sz="42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d lectures and tutorials (Don’t skip!)</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lecture aids and notes before clas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ew lectures and review material from last clas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lab, know the steps and why, make flow chart even if you aren’t allow to take notebook out of lab</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assignments before tutorial and ask ques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ote-taking</a:t>
            </a:r>
            <a:endParaRPr b="0" lang="en-US" sz="4200" spc="-1" strike="noStrike">
              <a:solidFill>
                <a:srgbClr val="ffffff"/>
              </a:solidFill>
              <a:latin typeface="Arial"/>
            </a:endParaRPr>
          </a:p>
        </p:txBody>
      </p:sp>
      <p:sp>
        <p:nvSpPr>
          <p:cNvPr id="1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write at the expense of listening (print lectures to fill in or bring laptop, legible slides 4-6/page, font not too small)</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bbreviated notes and make extra comment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miss something, come back later and ask a neighbour or Prof. during break</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possible midterm/exam ques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tudying</a:t>
            </a:r>
            <a:endParaRPr b="0" lang="en-US" sz="42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 could’ve done better if I had more time to study.”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lecture the day of (positive reinforcement)</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e/add to lecture notes with corresponding content in textbook</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group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 (place, organize work space, no distractions, lighting)</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styles (re-listening to lecture recording/video vs. taking no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9:54:50Z</dcterms:created>
  <dc:creator>LukT</dc:creator>
  <dc:description/>
  <dc:language>en-US</dc:language>
  <cp:lastModifiedBy>LukT</cp:lastModifiedBy>
  <dcterms:modified xsi:type="dcterms:W3CDTF">2010-06-04T14:58:33Z</dcterms:modified>
  <cp:revision>18</cp:revision>
  <dc:subject/>
  <dc:title>Tutorial</dc:title>
</cp:coreProperties>
</file>